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4.jpeg" ContentType="image/jpeg"/>
  <Override PartName="/ppt/media/image22.gif" ContentType="image/gif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06B6-9F49-4902-B3BC-E980DC40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A36-4191-4E82-8D55-595A3DB2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B78F0-E7E5-4CD3-9CF6-9C20F889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6E96B-CA34-4020-93D3-CD1DDF79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A1F30-9A1B-4F42-8C6F-0A01DAEE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94396-D28A-4527-B50B-71B4B661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41E22-FBD3-4267-BD5D-E45F79B3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6E564-9729-4F78-8FD0-C7F2D1AD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049F4-F2F7-4445-BA06-EAB766D6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F9012-6143-4B3D-B235-B40EF9EC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C2DA9-1B15-40E5-A478-CA956421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FB5-C44F-4874-B3D0-52719746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26A6-EDBD-4D45-9E72-9A552335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162C-87EB-4ED3-BC1F-3468D557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FF88-E112-427E-A738-3673FA96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5C1F-847B-41A8-B5AC-71304855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49E9-90EB-4E0C-8589-6B07CDF2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76FC-5B67-4727-A1E7-E3C29729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F0FE-F3DF-4CE7-B2CF-A0F21793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4A42-5D5F-4DAD-A04D-6A967324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0BFA-9665-4E62-89AE-D53D961F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552A-7E2B-461D-AB6B-5BD38A3E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BDE7-E401-4D25-9095-B3F48CA2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820A-16F1-4665-8EAB-F5B1F6FB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82E3-4C59-44EA-B788-B2CF27ED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FA52-7199-4CB6-9D75-D995DB0C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F869E-648F-4D53-902B-5CFF8B68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D554E-3492-4EA5-82F3-95BCA78B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360F1-855B-441C-9C9C-DA27708C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1AD81-3A26-42C2-BE88-0D4E59C1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223A5-DE36-4F87-A3B3-472447B2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0469-233C-4FCB-8FB9-411F4BE4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1D0EA-FD45-4D4D-B1CE-C6160818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AECB6-F01E-4390-AD12-1647F270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42299-2849-4F12-80CC-F311128A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820F3-ECBA-41FA-8491-058C0EF5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02450-78F2-4EFC-9F40-7AE9F96E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1E20E-CFE2-4B6A-BC88-340D41B9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A2C71-293E-4956-95E0-185D0C26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3DBE6-2B32-42EE-9D55-5CD136F4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46B3E-E138-4236-8D88-3A4E42F6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7D1AE-3BE2-4DFC-BFA1-F51066D9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D666-183C-4E8E-B451-AFAAAFF6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FF188-D4E1-4FBA-AB43-2924918E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B7658-EE65-4121-86A4-CB923D34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C3AAF-14E2-4891-B0BD-EECECCBC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6ECAE-C238-487E-93F3-BDFC7DA1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C6A55-93B3-4C2B-A4D8-5EB7C158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F69C2-7629-4566-AE88-A8774237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BECFA-AAC1-4FF3-A6D2-F7274726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00ED4-B9EA-4B20-90B9-7E574DF9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74297-EEF1-4B41-BA2A-4291828D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552E5-35AE-440E-B70B-ED5CAD89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CD9-70C7-4217-BF9A-0363EF64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AAA7C-7BBC-4E4E-A2BA-67D03AB4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1AA43-F10A-446A-8EE0-A3C52E83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8185A-EFB4-45B6-82D1-8EDB79C0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12D9D-500E-4798-9AC7-E91620C4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C2143-2965-4DB6-B628-767A3B76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E5443-8D8B-461E-AAA8-B3BC6E66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84990-1A16-48ED-AA17-EE3A73D5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60BAB-E5DA-4A1C-ACD9-DBA0D4F7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0D9D7-A0DC-4496-BF58-4ACEE0C4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ECC82-420B-4AD9-9EC7-BB16B747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B2D2-F189-49D2-9D3E-56D4A8F9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3A8A0-65C9-42D6-AC3D-6576EA55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5AC10-C874-4489-A2E7-965E026A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E7716-2CF4-4AEB-B9A6-511E88E9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77F71-F9AC-4CAA-A6A7-F23EEA77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8E0DE-D8E3-4DA0-AC8A-304698E1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5BF38-F262-4A03-9F9F-5EE543CD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F3626-0756-44AB-AF73-51561444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0F5CA-C82D-4168-B972-E82836AE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18A36-88D5-4C49-BD10-9D6E6408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32133-B33C-4AE8-AE82-A15AD57A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4E8-1420-45AC-9BB3-B86B54E8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E2920-7A87-4B69-A668-E1F33BF3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FFD47-685F-4E71-902F-6175B3E5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E936C-9AED-42E0-92EF-9C066B92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FEC42-8223-4752-8FBB-E7A30393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73D57-6921-4F92-9890-87BFE8CE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40F98-3362-4EEE-B743-73B3E191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B0D9D-2B00-4C3B-BF6D-1A2BA374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60823-E7A7-41D5-BC14-66209BA4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54FDA-32BD-47DB-AF64-C3AD6EFC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E1342-EB85-45AE-B79B-EFA1E14F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A89-8688-4FED-A42D-6EC65646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F6C2D-5F10-4E7C-8ACD-B552894E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F3F53-9416-4E82-B2D2-1A98ADE7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55F02-8E97-4D7B-BA2B-770DE5C5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C651C-820C-46A8-AF7A-EE914FB4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45CFC-1686-45D7-B474-8BBC73D1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F8EEB-9102-449B-B09A-21D9CF95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6941B-0D01-4C26-B036-A8375E42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336E6-7F1D-4768-A41E-9A7F81CF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CB116-DFEC-433A-8C69-A273CB79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F5AEF-22CF-430D-AB9E-920FB8D5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6DF3-A31F-4FDB-8B4B-1E7EA4DA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2D22A-1A68-4AB7-B98C-8DCE38B8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D4CFD-0BF3-45AF-BCC7-B93D68C9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FB24E-42F6-4969-9115-38ECF37F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F0214-C7AD-4862-A633-D4434BED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D9F39-F3E2-47A4-B445-979864E8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E2741-6C63-4FEF-A657-A8259F51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172F9-8753-42B0-8A6A-63505C19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DBB04-F351-472E-94FB-736C151B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88286-FC89-4BB7-A67C-ABAA0B86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B4A1A-5614-4BDD-80D4-A210824A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1926-1E62-46E6-ADA4-915D07C3A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EE96-5581-406B-A4FA-8DD99AD43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767F-3F62-4568-AA6E-578AF842D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6D6D-38E0-4105-B051-2F19549D3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AEB1-63FD-4DBD-8ABF-77075004B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EB79-C776-45AD-8F01-154E67EA0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FD7F-642C-4ED0-B4E0-1969111A6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5F23-B734-4BD5-B80E-EE7BE5A4E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68E9-A99D-4504-85FA-E9B7987A6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2195640" y="1125360"/>
            <a:ext cx="669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Порешаем с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пингвинам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2" descr="751950"/>
          <p:cNvPicPr/>
          <p:nvPr/>
        </p:nvPicPr>
        <p:blipFill>
          <a:blip r:embed="rId1"/>
          <a:stretch/>
        </p:blipFill>
        <p:spPr>
          <a:xfrm>
            <a:off x="250920" y="260280"/>
            <a:ext cx="1904760" cy="62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Arial"/>
              </a:rPr>
              <a:t>Вопрос №10</a:t>
            </a:r>
            <a:endParaRPr b="0" lang="en-US" sz="6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зовите устройство вв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) мы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B) мон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) системный 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) прин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9" descr="NP6M2J5DoW"/>
          <p:cNvPicPr/>
          <p:nvPr/>
        </p:nvPicPr>
        <p:blipFill>
          <a:blip r:embed="rId1"/>
          <a:stretch/>
        </p:blipFill>
        <p:spPr>
          <a:xfrm>
            <a:off x="6227640" y="404640"/>
            <a:ext cx="2872080" cy="33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2400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3366"/>
                </a:solidFill>
                <a:uFillTx/>
                <a:latin typeface="MingLiU"/>
                <a:ea typeface="MingLiU"/>
              </a:rPr>
              <a:t>МОЛОДЕЦ!!!</a:t>
            </a:r>
            <a:r>
              <a:rPr b="1" i="1" lang="ru-RU" sz="44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br>
              <a:rPr sz="4400"/>
            </a:br>
            <a:r>
              <a:rPr b="1" i="1" lang="ru-RU" sz="4400" spc="-1" strike="noStrike">
                <a:solidFill>
                  <a:srgbClr val="003366"/>
                </a:solidFill>
                <a:latin typeface="MingLiU"/>
                <a:ea typeface="MingLiU"/>
              </a:rPr>
              <a:t>Ты справился!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02" name="Picture 5" descr="77090370_2374021_6vGGdYfpat_1_"/>
          <p:cNvPicPr/>
          <p:nvPr/>
        </p:nvPicPr>
        <p:blipFill>
          <a:blip r:embed="rId1"/>
          <a:stretch/>
        </p:blipFill>
        <p:spPr>
          <a:xfrm>
            <a:off x="6156360" y="-171360"/>
            <a:ext cx="2519280" cy="3095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52"/>
          <p:cNvPicPr/>
          <p:nvPr/>
        </p:nvPicPr>
        <p:blipFill>
          <a:blip r:embed="rId2"/>
          <a:stretch/>
        </p:blipFill>
        <p:spPr>
          <a:xfrm>
            <a:off x="179280" y="4098960"/>
            <a:ext cx="263376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6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правильно!</a:t>
            </a:r>
            <a:br>
              <a:rPr sz="6600"/>
            </a:br>
            <a:r>
              <a:rPr b="1" lang="en-US" sz="6600" spc="-1" strike="noStrike">
                <a:solidFill>
                  <a:srgbClr val="003366"/>
                </a:solidFill>
                <a:latin typeface="Wingdings"/>
                <a:ea typeface="Wingdings"/>
              </a:rPr>
              <a:t></a:t>
            </a:r>
            <a:br>
              <a:rPr sz="6600"/>
            </a:br>
            <a:endParaRPr b="0" lang="en-US" sz="6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05" name="Picture 5" descr="1373028720_pingvin4m"/>
          <p:cNvPicPr/>
          <p:nvPr/>
        </p:nvPicPr>
        <p:blipFill>
          <a:blip r:embed="rId1"/>
          <a:stretch/>
        </p:blipFill>
        <p:spPr>
          <a:xfrm>
            <a:off x="-252360" y="3870360"/>
            <a:ext cx="2987640" cy="2987640"/>
          </a:xfrm>
          <a:prstGeom prst="rect">
            <a:avLst/>
          </a:prstGeom>
          <a:ln w="0">
            <a:noFill/>
          </a:ln>
        </p:spPr>
      </p:pic>
      <p:sp>
        <p:nvSpPr>
          <p:cNvPr id="406" name="Управляющая кнопка: настраиваемая 4">
            <a:hlinkClick r:id="" action="ppaction://hlinkshowjump?jump=previousslide"/>
          </p:cNvPr>
          <p:cNvSpPr/>
          <p:nvPr/>
        </p:nvSpPr>
        <p:spPr>
          <a:xfrm>
            <a:off x="2411280" y="2708280"/>
            <a:ext cx="5256360" cy="1297080"/>
          </a:xfrm>
          <a:custGeom>
            <a:avLst/>
            <a:gdLst>
              <a:gd name="textAreaLeft" fmla="*/ 83880 w 5256360"/>
              <a:gd name="textAreaRight" fmla="*/ 5172480 w 525636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87515" h="21600">
                <a:moveTo>
                  <a:pt x="0" y="0"/>
                </a:moveTo>
                <a:lnTo>
                  <a:pt x="87515" y="0"/>
                </a:lnTo>
                <a:lnTo>
                  <a:pt x="87515" y="21600"/>
                </a:lnTo>
                <a:lnTo>
                  <a:pt x="0" y="21600"/>
                </a:lnTo>
                <a:close/>
              </a:path>
              <a:path fill="lightenLess" w="87515" h="21600">
                <a:moveTo>
                  <a:pt x="0" y="0"/>
                </a:moveTo>
                <a:lnTo>
                  <a:pt x="87515" y="0"/>
                </a:lnTo>
                <a:lnTo>
                  <a:pt x="86115" y="1400"/>
                </a:lnTo>
                <a:lnTo>
                  <a:pt x="1400" y="1400"/>
                </a:lnTo>
                <a:close/>
              </a:path>
              <a:path fill="darken" w="87515" h="21600">
                <a:moveTo>
                  <a:pt x="87515" y="0"/>
                </a:moveTo>
                <a:lnTo>
                  <a:pt x="87515" y="21600"/>
                </a:lnTo>
                <a:lnTo>
                  <a:pt x="86115" y="20200"/>
                </a:lnTo>
                <a:lnTo>
                  <a:pt x="86115" y="1400"/>
                </a:lnTo>
                <a:close/>
              </a:path>
              <a:path fill="darkenLess" w="87515" h="21600">
                <a:moveTo>
                  <a:pt x="87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115" y="20200"/>
                </a:lnTo>
                <a:close/>
              </a:path>
              <a:path fill="lighten" w="87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472"/>
          </a:solidFill>
          <a:ln w="25560">
            <a:solidFill>
              <a:srgbClr val="95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e8e8e8"/>
                </a:solidFill>
                <a:latin typeface="Times New Roman"/>
                <a:ea typeface="Times New Roman"/>
              </a:rPr>
              <a:t>Попробуй еще ра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Arial"/>
              </a:rPr>
              <a:t>Вопрос №1</a:t>
            </a:r>
            <a:endParaRPr b="0" lang="en-US" sz="6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сновным носителем информации в социуме на современном этапе явля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А) фотопл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B) диск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С) бум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D) жесткий ди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3U7xpTx6U6"/>
          <p:cNvPicPr/>
          <p:nvPr/>
        </p:nvPicPr>
        <p:blipFill>
          <a:blip r:embed="rId5"/>
          <a:stretch/>
        </p:blipFill>
        <p:spPr>
          <a:xfrm>
            <a:off x="6372360" y="404640"/>
            <a:ext cx="2493720" cy="35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Arial"/>
              </a:rPr>
              <a:t>Вопрос №2</a:t>
            </a:r>
            <a:endParaRPr b="0" lang="en-US" sz="6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к называется челов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 компьютерном язы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А) пользов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B) кли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C) паци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D) заказ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pinguin_PNG17"/>
          <p:cNvPicPr/>
          <p:nvPr/>
        </p:nvPicPr>
        <p:blipFill>
          <a:blip r:embed="rId5"/>
          <a:stretch/>
        </p:blipFill>
        <p:spPr>
          <a:xfrm>
            <a:off x="6372360" y="187200"/>
            <a:ext cx="2441520" cy="25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Arial"/>
              </a:rPr>
              <a:t>Вопрос №3</a:t>
            </a:r>
            <a:endParaRPr b="0" lang="en-US" sz="6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кая из этих величин -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ласти информати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А) киловат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B) кило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C) килоб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D) киловоль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11901034-christmas-penguin"/>
          <p:cNvPicPr/>
          <p:nvPr/>
        </p:nvPicPr>
        <p:blipFill>
          <a:blip r:embed="rId5"/>
          <a:stretch/>
        </p:blipFill>
        <p:spPr>
          <a:xfrm>
            <a:off x="6877080" y="333360"/>
            <a:ext cx="2128680" cy="33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Arial"/>
              </a:rPr>
              <a:t>Вопрос №4</a:t>
            </a:r>
            <a:endParaRPr b="0" lang="en-US" sz="6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вым средством даль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вязи принято счит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А) поч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B) телеф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C) компьютерные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D) радиосвяз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9" descr="penguingirl"/>
          <p:cNvPicPr/>
          <p:nvPr/>
        </p:nvPicPr>
        <p:blipFill>
          <a:blip r:embed="rId5"/>
          <a:stretch/>
        </p:blipFill>
        <p:spPr>
          <a:xfrm>
            <a:off x="5724360" y="333360"/>
            <a:ext cx="327528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Arial"/>
              </a:rPr>
              <a:t>Вопрос №5</a:t>
            </a:r>
            <a:endParaRPr b="0" lang="en-US" sz="6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9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кого вида модели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9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уществу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9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А) предмет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9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B) деревя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9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C) абстракт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9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D) информацио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9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" descr="Baby%20Penguin"/>
          <p:cNvPicPr/>
          <p:nvPr/>
        </p:nvPicPr>
        <p:blipFill>
          <a:blip r:embed="rId5"/>
          <a:stretch/>
        </p:blipFill>
        <p:spPr>
          <a:xfrm>
            <a:off x="6227640" y="260280"/>
            <a:ext cx="270828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Arial"/>
              </a:rPr>
              <a:t>Вопрос №6</a:t>
            </a:r>
            <a:endParaRPr b="0" lang="en-US" sz="6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ля чего память компьют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 предназнач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А) запись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B) хранение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C) вывод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) преобразование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5" descr="main_568495_original"/>
          <p:cNvPicPr/>
          <p:nvPr/>
        </p:nvPicPr>
        <p:blipFill>
          <a:blip r:embed="rId4"/>
          <a:stretch/>
        </p:blipFill>
        <p:spPr>
          <a:xfrm>
            <a:off x="5958000" y="0"/>
            <a:ext cx="3186000" cy="37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Arial"/>
              </a:rPr>
              <a:t>Вопрос №7</a:t>
            </a:r>
            <a:endParaRPr b="0" lang="en-US" sz="6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к называется програм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ля работы с текс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) Power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B)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)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) 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5" descr="w128h1281349050210pingus"/>
          <p:cNvPicPr/>
          <p:nvPr/>
        </p:nvPicPr>
        <p:blipFill>
          <a:blip r:embed="rId1"/>
          <a:stretch/>
        </p:blipFill>
        <p:spPr>
          <a:xfrm>
            <a:off x="6012000" y="117360"/>
            <a:ext cx="2946240" cy="29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Arial"/>
              </a:rPr>
              <a:t>Вопрос №9</a:t>
            </a:r>
            <a:endParaRPr b="0" lang="en-US" sz="6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то может зараз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мпьют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) бацил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B) микр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) вир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)параз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5" descr="penguin"/>
          <p:cNvPicPr/>
          <p:nvPr/>
        </p:nvPicPr>
        <p:blipFill>
          <a:blip r:embed="rId1"/>
          <a:stretch/>
        </p:blipFill>
        <p:spPr>
          <a:xfrm>
            <a:off x="6227640" y="187200"/>
            <a:ext cx="2732040" cy="273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6:03:51Z</dcterms:created>
  <dc:creator>olga</dc:creator>
  <dc:description/>
  <dc:language>en-US</dc:language>
  <cp:lastModifiedBy>Светлана</cp:lastModifiedBy>
  <dcterms:modified xsi:type="dcterms:W3CDTF">2016-12-05T13:07:26Z</dcterms:modified>
  <cp:revision>77</cp:revision>
  <dc:subject/>
  <dc:title>Слайд 1</dc:title>
</cp:coreProperties>
</file>